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C92-92AF-4A05-8DA6-95B8D48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FB1-1926-4D60-BE98-953C43A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39D-F543-40E4-96D9-7CD8E0E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13E-4CDD-4D27-9FE4-8934BB31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BD57-F1D4-4FF9-B81A-C621F8B0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73F-7412-434F-9A7A-D42C273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DA3-700F-4133-902A-5F08B190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AD3-3717-4032-A779-3C307DE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DE3-A76B-402D-8943-CF93812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0272-36CB-45EB-AB90-0ABEEC5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95A-4264-4DA8-AAA4-0201CAF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931-001B-4C34-B7EA-1593CC2C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B03D-D80E-4A78-9DA5-686B85D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D5B-E1E2-45B6-A61A-433C3FC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B18-9666-452A-A10F-7938243F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8CD-8133-4774-A71C-81F83029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BDB-FE05-4132-BF9D-EB893436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4C9-B166-470E-BB95-F1011B7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E13-D0E4-4BBE-AD26-9A33131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522-9BE2-4298-9114-FF6193DD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021-0995-41F8-80FA-5A662D7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0D7-259E-4136-8E9D-AFEC500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5CB-C811-49C5-9988-29D840C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FF7-8C87-4D01-9F02-CA1E242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B95-CA25-4837-B505-A11F09B14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B3D-C5F7-4219-A26E-454EF176F9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iXo78XPdKU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WQgktBR6-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ublic Service Announce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awareness campa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se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campaign ads a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 the decisions made for and by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The Offi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shows you how it’s d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he More You Kn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Office-Cast-1024x786"/>
          <p:cNvPicPr/>
          <p:nvPr/>
        </p:nvPicPr>
        <p:blipFill>
          <a:blip r:embed="rId2"/>
          <a:stretch/>
        </p:blipFill>
        <p:spPr>
          <a:xfrm>
            <a:off x="3809880" y="2666880"/>
            <a:ext cx="51818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Star Wa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gives us all a life les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moking is not grown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tarwars"/>
          <p:cNvPicPr/>
          <p:nvPr/>
        </p:nvPicPr>
        <p:blipFill>
          <a:blip r:embed="rId2"/>
          <a:stretch/>
        </p:blipFill>
        <p:spPr>
          <a:xfrm>
            <a:off x="4713120" y="1719360"/>
            <a:ext cx="39070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k, for real this tim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r Ma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men's Voices. Women's Vo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m Br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flags mean bus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few examples from your pee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ing Roc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6:01:50Z</dcterms:created>
  <dc:creator>Owner</dc:creator>
  <dc:description/>
  <dc:language>en-US</dc:language>
  <cp:lastModifiedBy>hberndt</cp:lastModifiedBy>
  <dcterms:modified xsi:type="dcterms:W3CDTF">2010-03-16T15:20:27Z</dcterms:modified>
  <cp:revision>7</cp:revision>
  <dc:subject/>
  <dc:title>Public Service Announcements</dc:title>
</cp:coreProperties>
</file>